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097-EB66-4180-A904-1CBFB43A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C20-7A3B-4007-86DB-E5825207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FAF-F787-452E-BE9F-1D529607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3DC-22AD-4DBD-A9A2-D22E0B6C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C36-D1FA-4A59-A9E8-81BA8DB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EB0-6A5D-4A14-9769-ECF42F30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94D3-E472-41FA-8885-4367DB3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19DB-1729-4982-8017-9FBDB3C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5DC-F3A5-46D5-BF6E-00AE9DDC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E7A-39D1-45C7-A022-0A06F72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D73-86BE-4B19-B48B-13C4C544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DE2-AE66-4F07-BAC9-BEE3DE2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695E-F81C-4755-A68F-5E21300EA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en.wikipedia.org/wiki/Image:2006_AFL_Carlton200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hyperlink" Target="http://en.wikipedia.org/w/index.php?title=Waracknabeal_Gift&amp;action=edit&amp;redlink=1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287800">
            <a:off x="394920" y="1052280"/>
            <a:ext cx="461952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ouglas Nicholls</a:t>
            </a:r>
            <a:endParaRPr b="0" lang="en-US" sz="7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964200">
            <a:off x="4427640" y="1196640"/>
            <a:ext cx="3730680" cy="511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18507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836640"/>
            <a:ext cx="698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r Douglas Nicholls was born on 1906 in New South W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played Australia rules footb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t picked up by the Carlton Football Clu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0360" y="3789360"/>
            <a:ext cx="2462400" cy="2460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4049640"/>
            <a:ext cx="2282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or of South Australia from 1 December 1976 to 30 April 19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32 Doug joined Fitzroy Football Clu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5 the first Aboriginal player to be selected to play for the Victorian Inter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4569120" cy="53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80360" y="620640"/>
            <a:ext cx="1257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money in running races and in 1928 won the Warracknabeal Gif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2592360" cy="2384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539640" y="4437000"/>
            <a:ext cx="2873520" cy="18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4"/>
          </p:cNvPr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45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s a minister of religion and social worker with Aboriginal peop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7 he became a field officer for the Aborigines Adva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0904000">
            <a:off x="5205240" y="2771640"/>
            <a:ext cx="39387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6:51Z</dcterms:created>
  <dc:creator>Reservoir District Secondary College</dc:creator>
  <dc:description/>
  <dc:language>en-US</dc:language>
  <cp:lastModifiedBy>Reservoir District Secondary College</cp:lastModifiedBy>
  <dcterms:modified xsi:type="dcterms:W3CDTF">2008-07-18T03:37:59Z</dcterms:modified>
  <cp:revision>7</cp:revision>
  <dc:subject/>
  <dc:title>Slide 1</dc:title>
</cp:coreProperties>
</file>